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99C97-F41A-4136-B14E-8AAF7BBA82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7AF-85CA-44AC-9E3D-3922337E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D4B-9D39-4562-BCFD-4D95B70C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882-0556-4161-A9B3-E3743987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444-B330-48DF-A210-2BDE4E96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FF44-DCCD-4776-9F3C-16F858E3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6D4F-8E9B-474E-9EFA-83AA2DB4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B4D3-AA70-4772-9D52-7DF305B9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CC24-1BBC-4425-9A88-0F31BF4B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B182-E3D6-4AA4-B498-FFD164AC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F8DE-CC56-4F50-AC81-962D5A68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244B-93F7-4840-9B58-7CC07191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C9B-4ED6-4E4E-A173-A0A160D0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7FCA-F71E-4612-A626-DC77255F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ECA5-CC93-4DAF-9357-355A8529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9B9C-EA95-4615-B8C7-6B469864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96C4-1113-4FED-B915-DDBADFA3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512F-A16B-40CF-A845-16A49236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231-FB5F-412E-8800-9E7DEE11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E64-93CB-43DE-8970-81C8893B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90C-D4A7-4D99-8EC0-69C1F1D1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34C-6989-4D44-9240-041FC26C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01B-547D-481D-8022-F7E789B1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08E-EE40-478F-BF94-7DEA5A16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728-9137-4B71-B42A-014C7B69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36CBB-68F5-4B75-867E-E92A8ADBF6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737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C035C-45BC-4FE5-8FD2-351B34F281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ee.celinuxforum.org/CelfPubWiki/ELC2009Presentations?action=AttachFile&amp;do=get&amp;target=flash-filesystems.pdf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linux.org/" TargetMode="External"/><Relationship Id="rId2" Type="http://schemas.openxmlformats.org/officeDocument/2006/relationships/hyperlink" Target="http://elinux.org/" TargetMode="External"/><Relationship Id="rId3" Type="http://schemas.openxmlformats.org/officeDocument/2006/relationships/hyperlink" Target="http://elinux.org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mbeddedlinuxconference.com/" TargetMode="External"/><Relationship Id="rId2" Type="http://schemas.openxmlformats.org/officeDocument/2006/relationships/hyperlink" Target="http://www.embeddedlinuxconference.com/" TargetMode="External"/><Relationship Id="rId3" Type="http://schemas.openxmlformats.org/officeDocument/2006/relationships/hyperlink" Target="http://www.embeddedlinuxconference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inux-mag.com/cache/7357/1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wn.net/Articles/29229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F Contract Wor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CELF Proje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 Bird - CELF A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lash filesystem testing and comparis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sting of different flash file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ad/write/boot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acted with Free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liminary results presented at ELC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tree.celinuxforum.org/CelfPubWiki/ELC2009Presentations?action=AttachFile&amp;do=get&amp;target=flash-filesystems.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 is continuing on automation of the 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rectFB mainli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rectFB ‘Fusion’ needs support in Linux kern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ed with Dennis Kropp to mainline this function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tt Mack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s now in MAINTAINERS file as an embedded Linux mainta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oining David Woodhouse and Paul Gortma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pays for Matt to do miscellaneous development and advocacy for embedded Linux kernel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s is a valuable contribution to the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scellaneous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evice Trees for AR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ce Trees is a mechanism to pass info from bootloader to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ed in X86 and P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all platforms supported it, it could allow more uniform 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, allows for a single binary to run on multiple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currently a hot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pen Source DLNA sup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F held DLNA summi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vember 2008 in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F provided DLNA hardware and specs to OSS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60200"/>
            <a:ext cx="754524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Linux Wik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31040" cy="51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te for embedded Linux develo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linux.org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y good for some technical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eds work in some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te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inux.org working BOF at EL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Europe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ideos should be available s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Europe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apan Linux Sympos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embeddedlinuxconference.com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Europe 200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noble, F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15,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s notified – program looks goo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pan Linux Sympos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kyo, Ja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ctober 21-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s Torvalds is spe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rnel Summit scheduled for October 19-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eakers notified – program shaping 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2360" y="492120"/>
            <a:ext cx="7494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LC 2010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rrent pla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il 12-14 in San Francisco, CA,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-Located with Linux Foundation Collaboration Sum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 for presentations should go out shor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Contract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cellaneous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Contract Work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Contract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m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_not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MACK on TV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ash filesystem testing and compari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rectFB mainl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tt Mackall – maintainer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-tin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F contracted with Free-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 patches mainlined in Fall 2008 by Thomas Petazz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ent into 2.6.27 and some into 2.6.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very many easy patche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ze reduction of remaining patches is not very 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s it very hard to push them to mai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0066"/>
                </a:solidFill>
                <a:latin typeface="Arial"/>
              </a:rPr>
              <a:t>sme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information about system memory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roportional Set Siz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SS), which accounts better for shared pages, and doesn’t lie, like R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s visualization (ch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ten by Matt Mack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ed at ELC 2009 – is in good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www.selenic.com/sm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em_notif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dition to cgroup system to support notification to user-space on low memory con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ches submitted to LKML but not really noticed b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me feedback was addressed, and new patch was submitted just last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quash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ressed, read-only 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d in 2.6.2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as out-of-tree for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LF contracted author specifically to mainline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also contracted for some additional work on user-space utilities (mksquashf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y good article 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linux-mag.com/cache/7357/1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MACK on TV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m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Mandatory Access Control Kernel (SM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lined in 2.6.25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1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lwn.net/Articles/29229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ms good for embedded (low overhea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93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LF started project to evaluate TV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ject 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ite paper completed this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uld show up on elinux wiki very s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09-07-17T00:05:28Z</dcterms:modified>
  <cp:revision>19</cp:revision>
  <dc:subject/>
  <dc:title>スライド 1</dc:title>
</cp:coreProperties>
</file>